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690-6D74-423F-A5E5-7226B9AF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F72-D221-4F52-A684-15997FE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A5C-7F49-4787-B156-422ACFCA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891-26EC-4285-A174-D8790D5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DB2-85B0-4C31-8956-5F6A166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1B4-5258-4219-960C-40512C7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602-95A1-4BCE-B91C-A6B8D56C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378-B64C-4F77-AF9E-0619FD6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AF4-1CD0-4C1A-A200-3691DFA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7FF-FB55-477B-BBC6-2EA62E0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178-BBA9-454C-AC66-A5A6D8FC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713-202C-4A02-B8B6-D3732D1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08FA-5810-4A24-9A41-E82C0F312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mmigrants flocked to the nation’s cities beca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immigrant processing center in California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l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s Is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p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immigrant processing center in California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l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ement whose main aim was to assimi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igrants was the ________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ement whose main aim was to assimi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igrants was the ________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new form of housing conserved spac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ing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-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new form of housing conserved spac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ing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mmany Hall was the location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s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mmany Hall was the location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d applicants to pass an exam to ge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dlet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-Gorma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d applicants to pass an exam to ge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dlet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-Gorma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tor that prevent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ea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attending public high school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tor that prevent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ea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attending public high school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 Grandfather Clause, Southern white men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even if they could not meet which requir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pe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 Grandfather Clause, Southern white men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even if they could not meet which requir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pe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ies in the late 19 century expanded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all of the following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ies in the late 19 century expanded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all of the following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 Burnham’s plan for the 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icago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 front par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den electric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s of 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 Burnham’s plan for the 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icago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 front par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er Bessemer Process steel made which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 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er Bessemer Process steel made which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vention largely contributed to 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independence for w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dak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vention largely contributed to 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independence for w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were popular around the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centu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de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usement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were popular around the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centu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de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d that _________ wa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d that _________ wa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mmigrants flocked to the nation’s cities beca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ient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ich cultur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0-30T19:09:23Z</dcterms:modified>
  <cp:revision>188</cp:revision>
  <dc:subject/>
  <dc:title>PowerPoint Presentation</dc:title>
</cp:coreProperties>
</file>